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B6F-E876-405C-A9F6-CCAB2106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50D-4C50-4353-8863-803B0A40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88C-2426-4C1F-A4E0-B39D6C5E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FD5F-26D6-4544-8D06-D82B8C03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F7CF-DF72-42CB-89FD-826931F2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ADE9-30A4-4561-9BA0-DB0E5C3B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88E7-6FBE-46A1-B9D9-9306FA5F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08C-5000-4E56-8EE5-C9408CA1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217B-5F1D-460C-99E3-CAF01B67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4FE-EAC6-41EA-9EE7-1F478AA6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9CB-AF4F-40E1-AB10-F3C1C7C6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CCB-6097-41DC-8D38-FFEED449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346AD-D5BE-41CA-8E8C-30B2DE802371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2920" y="566280"/>
            <a:ext cx="9070920" cy="7396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6000" y="71280"/>
            <a:ext cx="9504360" cy="1584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31640" y="2084400"/>
            <a:ext cx="9071280" cy="56260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SCOLA ESTADUAL EDUARDO PEREZ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PROGETEC: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GRAZIELA DA COSTA SALLES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MULTIPLICADORA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: MERCEDES GOULART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ERENOS/M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16120" y="1913040"/>
            <a:ext cx="845172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GRUPO DE ESTUDO E DISCUSSÃO DO NÚCLEO DE TECNOLOGIAS EDUCACIONAIS REG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(GED NTE-REGION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ema 22 – A arte de estudar e apren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Grupo 3 – DESACER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Livro: Metodologia para quem quer aprender.São Paulo: Atlas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(Pedro Dem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6000" y="71280"/>
            <a:ext cx="950436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91680"/>
            <a:ext cx="90709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ACER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udar é reconstruir o conhecimento (inovação e renovação), porém a sociedade tem em todos os níveis escolares o instrucionismo como 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oje é necessário desconstruir essa base e refletir sobre o aluno que reconstrói, pesquisa, elabora, é critico e au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tanto o professor precisa dessa reconstrução de ser autor e construir os conhecimentos apreendidos de maneira a pesquisar e elaborar seus materia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3480" y="698328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59280" y="701208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88720" y="431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autor relata sobre a escola, porém descreve o professor como vítima desse sistema instrucionista, e, ressalta a importância de “estudar para a vida” , assim ele conseguirá refletir suas práticas e rever as habilidades que poderá trabalhar com os alunos (independe do grau de escolaridad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708336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76720" y="708336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3480" y="10008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176720" y="7128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8136000" y="7083360"/>
            <a:ext cx="194472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8313840" y="71280"/>
            <a:ext cx="1766880" cy="47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8720" y="95076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rodução é a base da aprendizagem tanto do professor quanto do aluno pois assumi o compromisso de apresentar somente o que pesquisou, elaborou, reconstruiu e apreendeu, tornando-se autor autôno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texto também aborda a pesquisa que deve ser um procedimento metódico, refletido, bem feito e elaborado. Toda pesquisa sobre o olhar do autor deve conter um questionamento reconstrutivo, para que se interprete dados e os questione antes de apresenta-los como verdadeiro ou fal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7016760"/>
            <a:ext cx="40194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060960" y="7056360"/>
            <a:ext cx="4019760" cy="542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0" t="0" r="50157" b="0"/>
          <a:stretch/>
        </p:blipFill>
        <p:spPr>
          <a:xfrm>
            <a:off x="4056120" y="7016760"/>
            <a:ext cx="2004840" cy="542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02920" y="93636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o estudo tem sido de instrução e não de reconstrução do conhecimento nota-se que uma grande parte dos alunos chegam ao ultimo ano do ensino fundamental II sem entenderem o que estão lendo. Não são autores, o que faz refletir sobre como nós professores devemos estar atentos não a quantidade de conteúdos, mas quais as habilidades que queremos desenvolver em nós e em nosso alu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52360" y="7343640"/>
            <a:ext cx="7086600" cy="152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4:09:04Z</dcterms:created>
  <dc:creator/>
  <dc:description/>
  <dc:language>en-US</dc:language>
  <cp:lastModifiedBy/>
  <dcterms:modified xsi:type="dcterms:W3CDTF">2015-03-26T15:22:04Z</dcterms:modified>
  <cp:revision>2</cp:revision>
  <dc:subject/>
  <dc:title/>
</cp:coreProperties>
</file>